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71C2-F785-4A8D-83B8-F3877FE9F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D2C3-C21B-4972-BA67-F126D3C73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4D91-9908-430D-B055-DF49D077F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7C1C-72D5-4FEF-BD0B-A40EF4551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EBE7-7365-48DA-9098-A4AC8158A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2C06-CB5C-4D47-A63D-435E9215C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0CCB-987E-4BFF-A915-333505AB7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F5A8-04A6-4A77-BE33-6D6EC6B36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0B8A-B8D6-4C81-9318-A6607AEEC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3223-1517-4C0C-BC63-94BED6655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6EFE-8148-4BDA-8689-1B81322A9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A682-5B17-4F5A-A1D3-B0F0D2980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A3405-44B2-414A-95C4-59A01139FA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lowing and More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 did it come fro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sumption/Jurisdi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mo-writing and trial trac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has it changed debat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ch over tru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e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Flow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gan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nemonic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te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count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pects of Flow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igge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iz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mbol 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lock-wri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gu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lock-wri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mat of Flow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23760" y="1523880"/>
            <a:ext cx="909648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ctics of Flow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(not) to write 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to wri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ck-flow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rth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     -&gt;      ^     v     !     (t)     (s)     T/     (TI)     (L) =/=     x____    Ext.    Heg   +    Econ    (W)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ggest Flowing Mistak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ive 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arity, Irrelevant Position, Car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ong P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p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or Spac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Assum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 turning the page ov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ng pa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erc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MEMB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n’t start writing till the tag FINISH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rth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bbreviate and use symb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ac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rrow columns AND empty sp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ne-by-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gan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ac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fu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g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ference and Labels (embedded or no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ading v. Trigge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ou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verview or no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0T16:00:54Z</dcterms:created>
  <dc:creator>Thomas</dc:creator>
  <dc:description/>
  <dc:language>en-US</dc:language>
  <cp:lastModifiedBy>The Adams Family</cp:lastModifiedBy>
  <dcterms:modified xsi:type="dcterms:W3CDTF">2012-08-29T13:03:26Z</dcterms:modified>
  <cp:revision>4</cp:revision>
  <dc:subject/>
  <dc:title>Flowing</dc:title>
</cp:coreProperties>
</file>